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A46721-5197-4DBD-9E19-A96154C2D62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81E3D5-6656-4C51-B956-6EA9246F13B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D14525-9A75-4BA7-AE91-62520221C4A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3FD7FD-5551-4AC0-AFC3-5386C055381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007003-F75F-4B40-A2BE-6A21A8D1452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3D9761-AD9F-4243-AE0D-A909C8E7AB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1613EE-E8C3-4867-890F-46F174FFDEE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0FF270-7C0C-44FA-8292-4BA14E938D6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717424-597B-4B34-8124-DA35FBD9019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4E364E-2D7F-4C68-B1DD-78041E11A9D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122667-DC9C-42F2-BE08-68BDC0E9177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5DF1B0-5803-4C50-A454-8F523764329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5B14FB-BC7D-4F93-A465-3381CE1217E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4B2E70-4F55-4AD2-90C0-F7E59086F9A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28811E-E620-463E-A734-3E555E3FDC1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0A0508-A6D8-49F8-A64F-EE0FD2D5127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8F9D2E-9607-4CCF-927C-C9615F67DE6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6AE078-0E3E-4FD1-8A6A-2C7C0AF7C41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3DBBB5-F68A-4F72-9F24-A932F9B1ADF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D06499-E7DA-460A-B47F-E72ED2398EB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39BE83-6BCB-4E3E-B284-CBED8B27791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835-A5CA-4ED6-9873-DBCCA5D9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026-E697-4144-BBB6-DB2E13D3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CE6-BA2D-4550-B65F-8AB2533E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7F3-97CA-4B57-B006-7F324920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A1BA-242F-41D2-B65A-896EA99A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09D3-149D-4D86-B29E-01314D18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39BD-2399-46FB-A8C3-F31D3115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F52C-FA84-4802-84B4-86DDA607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4916-C684-4E11-9085-0AE6BD6F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F30C-48B0-4466-81C4-1956DDF9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AE3B-6A39-4796-9184-8E737A6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38F-D08E-46F6-8CBC-00CE577F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6BE9-8455-4F40-AC85-E2BCA1A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7F53-1645-4EE6-8ABD-0834AFE7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A0CA-8924-48CE-9703-CAC8B049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FA8-4099-4D0D-B1CD-672D801E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1DA9-6345-4AE2-BDD7-057BE721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3A1-4483-4ED3-9530-34E6C618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25F-A446-4D96-960C-6DCA8558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7EF-126F-4CBB-951E-A2417B79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3B2-6606-4988-BA18-6DF30909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CEE-8CAD-4F4A-B17F-E439D032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3C4-1BFC-426A-B78E-A3BA2435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C18-AE4D-494D-ADF9-0BD1A7FF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890A-A5D3-4272-A5A3-CEC7B2570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D083-E7EE-4B55-8D44-8A87CCE783F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, run the 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vector space query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 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Rank”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atching docs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Zone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entle rain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756000" y="495288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Encode zones in dictionary vs. posting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ching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270080" y="4097160"/>
            <a:ext cx="654192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iered indexes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79480" y="4672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9" name="Group 68"/>
          <p:cNvGrpSpPr/>
          <p:nvPr/>
        </p:nvGrpSpPr>
        <p:grpSpPr>
          <a:xfrm>
            <a:off x="1899720" y="2244600"/>
            <a:ext cx="5029200" cy="657720"/>
            <a:chOff x="1899720" y="2244600"/>
            <a:chExt cx="5029200" cy="657720"/>
          </a:xfrm>
        </p:grpSpPr>
        <p:sp>
          <p:nvSpPr>
            <p:cNvPr id="150" name="Text Box 18"/>
            <p:cNvSpPr/>
            <p:nvPr/>
          </p:nvSpPr>
          <p:spPr>
            <a:xfrm>
              <a:off x="6309360" y="250344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1" name="Group 19"/>
            <p:cNvGrpSpPr/>
            <p:nvPr/>
          </p:nvGrpSpPr>
          <p:grpSpPr>
            <a:xfrm>
              <a:off x="1899720" y="2503440"/>
              <a:ext cx="617760" cy="398880"/>
              <a:chOff x="1899720" y="2503440"/>
              <a:chExt cx="617760" cy="398880"/>
            </a:xfrm>
          </p:grpSpPr>
          <p:sp>
            <p:nvSpPr>
              <p:cNvPr id="152" name="Text Box 20"/>
              <p:cNvSpPr/>
              <p:nvPr/>
            </p:nvSpPr>
            <p:spPr>
              <a:xfrm>
                <a:off x="189972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3" name="AutoShape 21"/>
              <p:cNvCxnSpPr>
                <a:stCxn id="152" idx="3"/>
                <a:endCxn id="154" idx="1"/>
              </p:cNvCxnSpPr>
              <p:nvPr/>
            </p:nvCxnSpPr>
            <p:spPr>
              <a:xfrm>
                <a:off x="2233440" y="27363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5" name="Group 22"/>
            <p:cNvGrpSpPr/>
            <p:nvPr/>
          </p:nvGrpSpPr>
          <p:grpSpPr>
            <a:xfrm>
              <a:off x="2547000" y="2503440"/>
              <a:ext cx="639000" cy="398880"/>
              <a:chOff x="2547000" y="2503440"/>
              <a:chExt cx="639000" cy="398880"/>
            </a:xfrm>
          </p:grpSpPr>
          <p:sp>
            <p:nvSpPr>
              <p:cNvPr id="154" name="Text Box 23"/>
              <p:cNvSpPr/>
              <p:nvPr/>
            </p:nvSpPr>
            <p:spPr>
              <a:xfrm>
                <a:off x="254700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6" name="AutoShape 24"/>
              <p:cNvCxnSpPr>
                <a:stCxn id="154" idx="3"/>
                <a:endCxn id="157" idx="1"/>
              </p:cNvCxnSpPr>
              <p:nvPr/>
            </p:nvCxnSpPr>
            <p:spPr>
              <a:xfrm>
                <a:off x="288108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8" name="Group 25"/>
            <p:cNvGrpSpPr/>
            <p:nvPr/>
          </p:nvGrpSpPr>
          <p:grpSpPr>
            <a:xfrm>
              <a:off x="3215160" y="2503440"/>
              <a:ext cx="580680" cy="398880"/>
              <a:chOff x="3215160" y="2503440"/>
              <a:chExt cx="580680" cy="398880"/>
            </a:xfrm>
          </p:grpSpPr>
          <p:sp>
            <p:nvSpPr>
              <p:cNvPr id="157" name="Text Box 26"/>
              <p:cNvSpPr/>
              <p:nvPr/>
            </p:nvSpPr>
            <p:spPr>
              <a:xfrm>
                <a:off x="321516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9" name="AutoShape 27"/>
              <p:cNvCxnSpPr>
                <a:stCxn id="157" idx="3"/>
                <a:endCxn id="160" idx="1"/>
              </p:cNvCxnSpPr>
              <p:nvPr/>
            </p:nvCxnSpPr>
            <p:spPr>
              <a:xfrm flipV="1">
                <a:off x="3571560" y="273276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1" name="Group 28"/>
            <p:cNvGrpSpPr/>
            <p:nvPr/>
          </p:nvGrpSpPr>
          <p:grpSpPr>
            <a:xfrm>
              <a:off x="3846240" y="2503440"/>
              <a:ext cx="711360" cy="398880"/>
              <a:chOff x="3846240" y="2503440"/>
              <a:chExt cx="711360" cy="398880"/>
            </a:xfrm>
          </p:grpSpPr>
          <p:sp>
            <p:nvSpPr>
              <p:cNvPr id="160" name="Text Box 29"/>
              <p:cNvSpPr/>
              <p:nvPr/>
            </p:nvSpPr>
            <p:spPr>
              <a:xfrm>
                <a:off x="3846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2" name="AutoShape 30"/>
              <p:cNvCxnSpPr>
                <a:stCxn id="160" idx="3"/>
                <a:endCxn id="163" idx="1"/>
              </p:cNvCxnSpPr>
              <p:nvPr/>
            </p:nvCxnSpPr>
            <p:spPr>
              <a:xfrm>
                <a:off x="4370040" y="273348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4" name="Group 31"/>
            <p:cNvGrpSpPr/>
            <p:nvPr/>
          </p:nvGrpSpPr>
          <p:grpSpPr>
            <a:xfrm>
              <a:off x="4608000" y="2503440"/>
              <a:ext cx="788040" cy="398880"/>
              <a:chOff x="4608000" y="2503440"/>
              <a:chExt cx="788040" cy="398880"/>
            </a:xfrm>
          </p:grpSpPr>
          <p:sp>
            <p:nvSpPr>
              <p:cNvPr id="163" name="Text Box 32"/>
              <p:cNvSpPr/>
              <p:nvPr/>
            </p:nvSpPr>
            <p:spPr>
              <a:xfrm>
                <a:off x="460800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33"/>
              <p:cNvCxnSpPr>
                <a:stCxn id="163" idx="3"/>
                <a:endCxn id="166" idx="1"/>
              </p:cNvCxnSpPr>
              <p:nvPr/>
            </p:nvCxnSpPr>
            <p:spPr>
              <a:xfrm>
                <a:off x="5132160" y="273312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7" name="Group 34"/>
            <p:cNvGrpSpPr/>
            <p:nvPr/>
          </p:nvGrpSpPr>
          <p:grpSpPr>
            <a:xfrm>
              <a:off x="5448240" y="2503440"/>
              <a:ext cx="786240" cy="398880"/>
              <a:chOff x="5448240" y="2503440"/>
              <a:chExt cx="786240" cy="398880"/>
            </a:xfrm>
          </p:grpSpPr>
          <p:sp>
            <p:nvSpPr>
              <p:cNvPr id="166" name="Text Box 35"/>
              <p:cNvSpPr/>
              <p:nvPr/>
            </p:nvSpPr>
            <p:spPr>
              <a:xfrm>
                <a:off x="5448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36"/>
              <p:cNvCxnSpPr>
                <a:stCxn id="166" idx="3"/>
                <a:endCxn id="150" idx="1"/>
              </p:cNvCxnSpPr>
              <p:nvPr/>
            </p:nvCxnSpPr>
            <p:spPr>
              <a:xfrm>
                <a:off x="592956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9" name="Group 39"/>
            <p:cNvGrpSpPr/>
            <p:nvPr/>
          </p:nvGrpSpPr>
          <p:grpSpPr>
            <a:xfrm>
              <a:off x="2064240" y="2244600"/>
              <a:ext cx="4556520" cy="258840"/>
              <a:chOff x="2064240" y="2244600"/>
              <a:chExt cx="4556520" cy="258840"/>
            </a:xfrm>
          </p:grpSpPr>
          <p:cxnSp>
            <p:nvCxnSpPr>
              <p:cNvPr id="170" name="AutoShape 37"/>
              <p:cNvCxnSpPr>
                <a:stCxn id="152" idx="0"/>
                <a:endCxn id="160" idx="0"/>
              </p:cNvCxnSpPr>
              <p:nvPr/>
            </p:nvCxnSpPr>
            <p:spPr>
              <a:xfrm flipH="1" flipV="1" rot="5400000">
                <a:off x="3072960" y="149256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71" name="AutoShape 38"/>
              <p:cNvCxnSpPr>
                <a:stCxn id="160" idx="0"/>
                <a:endCxn id="150" idx="0"/>
              </p:cNvCxnSpPr>
              <p:nvPr/>
            </p:nvCxnSpPr>
            <p:spPr>
              <a:xfrm flipH="1" flipV="1" rot="5400000">
                <a:off x="5351040" y="123372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72" name="Text Box 40"/>
          <p:cNvSpPr/>
          <p:nvPr/>
        </p:nvSpPr>
        <p:spPr>
          <a:xfrm>
            <a:off x="6831000" y="3798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3" name="Group 41"/>
          <p:cNvGrpSpPr/>
          <p:nvPr/>
        </p:nvGrpSpPr>
        <p:grpSpPr>
          <a:xfrm>
            <a:off x="1931400" y="3798720"/>
            <a:ext cx="617760" cy="398880"/>
            <a:chOff x="1931400" y="3798720"/>
            <a:chExt cx="617760" cy="398880"/>
          </a:xfrm>
        </p:grpSpPr>
        <p:sp>
          <p:nvSpPr>
            <p:cNvPr id="174" name="Text Box 42"/>
            <p:cNvSpPr/>
            <p:nvPr/>
          </p:nvSpPr>
          <p:spPr>
            <a:xfrm>
              <a:off x="193140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5" name="AutoShape 43"/>
            <p:cNvCxnSpPr>
              <a:stCxn id="174" idx="3"/>
              <a:endCxn id="176" idx="1"/>
            </p:cNvCxnSpPr>
            <p:nvPr/>
          </p:nvCxnSpPr>
          <p:spPr>
            <a:xfrm>
              <a:off x="228744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" name="Group 44"/>
          <p:cNvGrpSpPr/>
          <p:nvPr/>
        </p:nvGrpSpPr>
        <p:grpSpPr>
          <a:xfrm>
            <a:off x="2578680" y="3798720"/>
            <a:ext cx="617760" cy="398880"/>
            <a:chOff x="2578680" y="3798720"/>
            <a:chExt cx="617760" cy="398880"/>
          </a:xfrm>
        </p:grpSpPr>
        <p:sp>
          <p:nvSpPr>
            <p:cNvPr id="176" name="Text Box 45"/>
            <p:cNvSpPr/>
            <p:nvPr/>
          </p:nvSpPr>
          <p:spPr>
            <a:xfrm>
              <a:off x="257868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8" name="AutoShape 46"/>
            <p:cNvCxnSpPr>
              <a:stCxn id="176" idx="3"/>
              <a:endCxn id="179" idx="1"/>
            </p:cNvCxnSpPr>
            <p:nvPr/>
          </p:nvCxnSpPr>
          <p:spPr>
            <a:xfrm>
              <a:off x="293472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0" name="Group 47"/>
          <p:cNvGrpSpPr/>
          <p:nvPr/>
        </p:nvGrpSpPr>
        <p:grpSpPr>
          <a:xfrm>
            <a:off x="3226320" y="3798720"/>
            <a:ext cx="600480" cy="398880"/>
            <a:chOff x="3226320" y="3798720"/>
            <a:chExt cx="600480" cy="398880"/>
          </a:xfrm>
        </p:grpSpPr>
        <p:sp>
          <p:nvSpPr>
            <p:cNvPr id="179" name="Text Box 48"/>
            <p:cNvSpPr/>
            <p:nvPr/>
          </p:nvSpPr>
          <p:spPr>
            <a:xfrm>
              <a:off x="322632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1" name="AutoShape 49"/>
            <p:cNvCxnSpPr>
              <a:stCxn id="179" idx="3"/>
              <a:endCxn id="182" idx="1"/>
            </p:cNvCxnSpPr>
            <p:nvPr/>
          </p:nvCxnSpPr>
          <p:spPr>
            <a:xfrm>
              <a:off x="3582360" y="4031640"/>
              <a:ext cx="244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Group 50"/>
          <p:cNvGrpSpPr/>
          <p:nvPr/>
        </p:nvGrpSpPr>
        <p:grpSpPr>
          <a:xfrm>
            <a:off x="3857040" y="3798720"/>
            <a:ext cx="528120" cy="398880"/>
            <a:chOff x="3857040" y="3798720"/>
            <a:chExt cx="528120" cy="398880"/>
          </a:xfrm>
        </p:grpSpPr>
        <p:sp>
          <p:nvSpPr>
            <p:cNvPr id="182" name="Text Box 51"/>
            <p:cNvSpPr/>
            <p:nvPr/>
          </p:nvSpPr>
          <p:spPr>
            <a:xfrm>
              <a:off x="385704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4" name="AutoShape 52"/>
            <p:cNvCxnSpPr>
              <a:stCxn id="182" idx="3"/>
              <a:endCxn id="185" idx="1"/>
            </p:cNvCxnSpPr>
            <p:nvPr/>
          </p:nvCxnSpPr>
          <p:spPr>
            <a:xfrm flipV="1">
              <a:off x="4213440" y="4030200"/>
              <a:ext cx="1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6" name="Group 53"/>
          <p:cNvGrpSpPr/>
          <p:nvPr/>
        </p:nvGrpSpPr>
        <p:grpSpPr>
          <a:xfrm>
            <a:off x="4384800" y="3798720"/>
            <a:ext cx="869400" cy="398880"/>
            <a:chOff x="4384800" y="3798720"/>
            <a:chExt cx="869400" cy="398880"/>
          </a:xfrm>
        </p:grpSpPr>
        <p:sp>
          <p:nvSpPr>
            <p:cNvPr id="185" name="Text Box 54"/>
            <p:cNvSpPr/>
            <p:nvPr/>
          </p:nvSpPr>
          <p:spPr>
            <a:xfrm>
              <a:off x="4384800" y="379872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7" name="AutoShape 55"/>
            <p:cNvCxnSpPr>
              <a:stCxn id="185" idx="3"/>
              <a:endCxn id="188" idx="1"/>
            </p:cNvCxnSpPr>
            <p:nvPr/>
          </p:nvCxnSpPr>
          <p:spPr>
            <a:xfrm>
              <a:off x="4993560" y="4030560"/>
              <a:ext cx="26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9" name="Group 56"/>
          <p:cNvGrpSpPr/>
          <p:nvPr/>
        </p:nvGrpSpPr>
        <p:grpSpPr>
          <a:xfrm>
            <a:off x="5254560" y="3798720"/>
            <a:ext cx="762120" cy="398880"/>
            <a:chOff x="5254560" y="3798720"/>
            <a:chExt cx="762120" cy="398880"/>
          </a:xfrm>
        </p:grpSpPr>
        <p:sp>
          <p:nvSpPr>
            <p:cNvPr id="188" name="Text Box 57"/>
            <p:cNvSpPr/>
            <p:nvPr/>
          </p:nvSpPr>
          <p:spPr>
            <a:xfrm>
              <a:off x="5254560" y="3798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0" name="AutoShape 58"/>
            <p:cNvCxnSpPr>
              <a:stCxn id="188" idx="3"/>
              <a:endCxn id="191" idx="1"/>
            </p:cNvCxnSpPr>
            <p:nvPr/>
          </p:nvCxnSpPr>
          <p:spPr>
            <a:xfrm>
              <a:off x="5843520" y="4031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2" name="Group 59"/>
          <p:cNvGrpSpPr/>
          <p:nvPr/>
        </p:nvGrpSpPr>
        <p:grpSpPr>
          <a:xfrm>
            <a:off x="6068880" y="3798720"/>
            <a:ext cx="781200" cy="398880"/>
            <a:chOff x="6068880" y="3798720"/>
            <a:chExt cx="781200" cy="398880"/>
          </a:xfrm>
        </p:grpSpPr>
        <p:sp>
          <p:nvSpPr>
            <p:cNvPr id="191" name="Text Box 60"/>
            <p:cNvSpPr/>
            <p:nvPr/>
          </p:nvSpPr>
          <p:spPr>
            <a:xfrm>
              <a:off x="6068880" y="3798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3" name="AutoShape 61"/>
            <p:cNvCxnSpPr>
              <a:stCxn id="191" idx="3"/>
              <a:endCxn id="172" idx="1"/>
            </p:cNvCxnSpPr>
            <p:nvPr/>
          </p:nvCxnSpPr>
          <p:spPr>
            <a:xfrm>
              <a:off x="6594480" y="403164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4" name="Group 67"/>
          <p:cNvGrpSpPr/>
          <p:nvPr/>
        </p:nvGrpSpPr>
        <p:grpSpPr>
          <a:xfrm>
            <a:off x="2172240" y="3571560"/>
            <a:ext cx="4973400" cy="233280"/>
            <a:chOff x="2172240" y="3571560"/>
            <a:chExt cx="4973400" cy="233280"/>
          </a:xfrm>
        </p:grpSpPr>
        <p:cxnSp>
          <p:nvCxnSpPr>
            <p:cNvPr id="195" name="AutoShape 65"/>
            <p:cNvCxnSpPr>
              <a:stCxn id="174" idx="0"/>
              <a:endCxn id="185" idx="0"/>
            </p:cNvCxnSpPr>
            <p:nvPr/>
          </p:nvCxnSpPr>
          <p:spPr>
            <a:xfrm flipH="1" flipV="1" rot="5400000">
              <a:off x="3462840" y="2501280"/>
              <a:ext cx="13320" cy="2594520"/>
            </a:xfrm>
            <a:prstGeom prst="curvedConnector5">
              <a:avLst>
                <a:gd name="adj1" fmla="val 1800000"/>
                <a:gd name="adj2" fmla="val 50000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6" name="AutoShape 66"/>
            <p:cNvCxnSpPr>
              <a:stCxn id="185" idx="0"/>
              <a:endCxn id="172" idx="0"/>
            </p:cNvCxnSpPr>
            <p:nvPr/>
          </p:nvCxnSpPr>
          <p:spPr>
            <a:xfrm flipH="1" flipV="1" rot="5400000">
              <a:off x="5949720" y="2609280"/>
              <a:ext cx="13320" cy="2378880"/>
            </a:xfrm>
            <a:prstGeom prst="curvedConnector5">
              <a:avLst>
                <a:gd name="adj1" fmla="val 1800000"/>
                <a:gd name="adj2" fmla="val 49992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97" name="Text Box 70"/>
          <p:cNvSpPr/>
          <p:nvPr/>
        </p:nvSpPr>
        <p:spPr>
          <a:xfrm>
            <a:off x="4689360" y="3427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2068920" y="3478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2068920" y="20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73"/>
          <p:cNvSpPr/>
          <p:nvPr/>
        </p:nvSpPr>
        <p:spPr>
          <a:xfrm>
            <a:off x="4102560" y="2065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 went at Stanford my university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205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6" name="AutoShape 8"/>
            <p:cNvCxnSpPr>
              <a:stCxn id="205" idx="3"/>
              <a:endCxn id="207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8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207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9" name="AutoShape 11"/>
            <p:cNvCxnSpPr>
              <a:stCxn id="207" idx="3"/>
              <a:endCxn id="210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210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2" name="AutoShape 14"/>
            <p:cNvCxnSpPr>
              <a:stCxn id="210" idx="3"/>
              <a:endCxn id="213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4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213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5" name="AutoShape 17"/>
            <p:cNvCxnSpPr>
              <a:stCxn id="213" idx="3"/>
              <a:endCxn id="216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216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8" name="AutoShape 20"/>
            <p:cNvCxnSpPr>
              <a:stCxn id="216" idx="3"/>
              <a:endCxn id="219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0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219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1" name="AutoShape 23"/>
            <p:cNvCxnSpPr>
              <a:stCxn id="219" idx="3"/>
              <a:endCxn id="203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2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223" name="AutoShape 25"/>
            <p:cNvCxnSpPr>
              <a:stCxn id="205" idx="0"/>
              <a:endCxn id="213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24" name="AutoShape 26"/>
            <p:cNvCxnSpPr>
              <a:stCxn id="213" idx="0"/>
              <a:endCxn id="203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25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6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227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8" name="AutoShape 31"/>
            <p:cNvCxnSpPr>
              <a:stCxn id="227" idx="3"/>
              <a:endCxn id="229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0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229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1" name="AutoShape 34"/>
            <p:cNvCxnSpPr>
              <a:stCxn id="229" idx="3"/>
              <a:endCxn id="232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3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232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4" name="AutoShape 37"/>
            <p:cNvCxnSpPr>
              <a:stCxn id="232" idx="3"/>
              <a:endCxn id="235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235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7" name="AutoShape 40"/>
            <p:cNvCxnSpPr>
              <a:stCxn id="235" idx="3"/>
              <a:endCxn id="238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9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238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0" name="AutoShape 43"/>
            <p:cNvCxnSpPr>
              <a:stCxn id="238" idx="3"/>
              <a:endCxn id="241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2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241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3" name="AutoShape 46"/>
            <p:cNvCxnSpPr>
              <a:stCxn id="241" idx="3"/>
              <a:endCxn id="244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5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244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6" name="AutoShape 49"/>
            <p:cNvCxnSpPr>
              <a:stCxn id="244" idx="3"/>
              <a:endCxn id="225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7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248" name="AutoShape 51"/>
            <p:cNvCxnSpPr>
              <a:stCxn id="227" idx="0"/>
              <a:endCxn id="238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49" name="AutoShape 52"/>
            <p:cNvCxnSpPr>
              <a:stCxn id="238" idx="0"/>
              <a:endCxn id="225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50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0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261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3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ng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 Less pointer comparis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269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0" name="AutoShape 6"/>
            <p:cNvCxnSpPr>
              <a:stCxn id="269" idx="3"/>
              <a:endCxn id="267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1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272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3" name="AutoShape 10"/>
            <p:cNvCxnSpPr>
              <a:stCxn id="272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4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275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6" name="AutoShape 13"/>
            <p:cNvCxnSpPr>
              <a:stCxn id="275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7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278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9" name="AutoShape 16"/>
            <p:cNvCxnSpPr>
              <a:stCxn id="278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0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281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2" name="AutoShape 19"/>
            <p:cNvCxnSpPr>
              <a:stCxn id="281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3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284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5" name="AutoShape 22"/>
            <p:cNvCxnSpPr>
              <a:stCxn id="284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6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287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8" name="AutoShape 25"/>
            <p:cNvCxnSpPr>
              <a:stCxn id="287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290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1" name="AutoShape 28"/>
            <p:cNvCxnSpPr>
              <a:stCxn id="290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2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293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4" name="AutoShape 31"/>
            <p:cNvCxnSpPr>
              <a:stCxn id="293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5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6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297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8" name="AutoShape 35"/>
            <p:cNvCxnSpPr>
              <a:stCxn id="297" idx="3"/>
              <a:endCxn id="295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9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300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1" name="AutoShape 38"/>
            <p:cNvCxnSpPr>
              <a:stCxn id="300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2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303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4" name="AutoShape 41"/>
            <p:cNvCxnSpPr>
              <a:stCxn id="303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5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306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7" name="AutoShape 44"/>
            <p:cNvCxnSpPr>
              <a:stCxn id="306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8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309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0" name="AutoShape 47"/>
            <p:cNvCxnSpPr>
              <a:stCxn id="309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1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312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3" name="AutoShape 50"/>
            <p:cNvCxnSpPr>
              <a:stCxn id="312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4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315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6" name="AutoShape 53"/>
            <p:cNvCxnSpPr>
              <a:stCxn id="315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7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318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9" name="AutoShape 56"/>
            <p:cNvCxnSpPr>
              <a:stCxn id="318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0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321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22" name="AutoShape 59"/>
            <p:cNvCxnSpPr>
              <a:stCxn id="321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23" name="AutoShape 60"/>
          <p:cNvCxnSpPr>
            <a:stCxn id="269" idx="0"/>
            <a:endCxn id="275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AutoShape 61"/>
          <p:cNvCxnSpPr>
            <a:stCxn id="275" idx="0"/>
            <a:endCxn id="281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62"/>
          <p:cNvCxnSpPr>
            <a:stCxn id="281" idx="0"/>
            <a:endCxn id="287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63"/>
          <p:cNvCxnSpPr>
            <a:stCxn id="287" idx="0"/>
            <a:endCxn id="293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64"/>
          <p:cNvCxnSpPr>
            <a:stCxn id="297" idx="0"/>
            <a:endCxn id="312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65"/>
          <p:cNvCxnSpPr>
            <a:stCxn id="312" idx="0"/>
            <a:endCxn id="295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9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330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1" name="AutoShape 68"/>
            <p:cNvCxnSpPr>
              <a:stCxn id="330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2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333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4" name="AutoShape 71"/>
            <p:cNvCxnSpPr>
              <a:stCxn id="333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35" name="AutoShape 72"/>
          <p:cNvCxnSpPr>
            <a:stCxn id="293" idx="0"/>
            <a:endCxn id="267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if the index is relatively stat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ful for in-memo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list can outweigh the gains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known a distribution of accesses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en-US" sz="2400" spc="-1" strike="noStrike" baseline="-38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k-th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lement of the inverted lis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w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prob access an item in pos i..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of accessing an item in the sublist from i to j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(k-i+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with one single sk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first skip cmp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avg cost access the two lists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800" spc="-1" strike="noStrike" baseline="-38000">
                <a:solidFill>
                  <a:srgbClr val="000000"/>
                </a:solidFill>
                <a:latin typeface="Lucida Sans"/>
              </a:rPr>
              <a:t>u&gt;1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1,u-1) * L^0(1,u-1) + w(u,n) * L^1(u,n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can be tabulated in O(n^2) tim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i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), given L^1(j,n), for j&gt;i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the total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^2)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ounded Rectangle 4"/>
          <p:cNvSpPr/>
          <p:nvPr/>
        </p:nvSpPr>
        <p:spPr>
          <a:xfrm>
            <a:off x="6084720" y="260280"/>
            <a:ext cx="2735280" cy="936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You can solve it b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also fixed the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maximum numb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skip-point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at can be allocated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me as before but we add the parameter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p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+ min_{u&gt;1} w(1,u-1) * L^0(1,u-1) +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u,n) * L^1_{p-1}(u,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L^0(i,j), i.e. no pointers left, so sca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^1_i(j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 time [min calculation] if are available the values for L^{i-1}(h,n) with h &gt; j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L^p(1,n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kes O(n^2) time for a fixed 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2-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iends, Romans, Countryme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2-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n entry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,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-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-word is particularly useful for particular phrases (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ichael Jackson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itney Spears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10-17T08:42:17Z</dcterms:modified>
  <cp:revision>1219</cp:revision>
  <dc:subject/>
  <dc:title>Web Algorithmics</dc:title>
</cp:coreProperties>
</file>